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2283"/>
        <c:axId val="23702853"/>
      </c:barChart>
      <c:catAx>
        <c:axId val="24232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2853"/>
        <c:crosses val="autoZero"/>
        <c:auto val="1"/>
        <c:lblAlgn val="ctr"/>
        <c:lblOffset val="100"/>
        <c:noMultiLvlLbl val="0"/>
      </c:catAx>
      <c:valAx>
        <c:axId val="23702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2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ECE-B1B4-4498-ABB5-9875F705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2A2-1438-4358-8A31-1FC68E7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82A-8430-4A6F-9A89-1DD2102C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DA6-914E-4E18-91D1-C3C3E79F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A55-CDDE-4223-A238-042AD3B2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AB5-F073-4F6C-9075-9B0113AE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9B7-279E-4FD2-ADAD-8E7ECE3F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BBE-740E-4BBC-9A7D-69C9E19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61E-D39A-4C23-B43F-2994A2E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ADD-9038-485F-BFA0-9E0B1E1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BD2-0C38-4A7B-B26A-8CBD39D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BFA-7337-4296-9256-BFB5A6D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92A8C-6300-4BFC-A261-6D9F945D5A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